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0AD9-D14E-45C5-807A-3C0B77B3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7F2-A8FE-49C4-A9A8-5EBF427C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56F-4DF5-449F-A5C9-524C4B30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205-AEF8-4EB0-BEEA-AF52B18F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DB06-5C3B-4E10-9A54-1FEAB132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E908-F950-41DD-9CC2-E6BEE97E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246C-B333-4B8F-AE8C-8125F70C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6417-7D86-4D7A-A940-B1D710CA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8F06-C04D-48B6-85B6-1963C886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DF8C-3591-4488-80E4-4BCDE08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265F-9698-4A66-90BB-F33FD8ED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44E-2B5F-453A-9337-7B5C456A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377F-BF1D-40F3-9CDE-5C79A7C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5C3A-D5A2-4169-BA9D-1B85C60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F210-C4FC-4CB9-B009-A0FA10A9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B94A-F316-4B26-912C-8421AC4D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8F21-09EB-4775-8EF7-0C964E2C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E8CE-E59A-42BD-922F-1C655D70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8DC-51E7-43A6-A947-FE3345AC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ED1-7696-4A81-8254-2AAF5CE5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A081-BAAB-4167-9950-A2FC7485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1037-131B-40F2-8F6D-411E44B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A23-6B4D-497A-93B9-C38C1FA4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543-18B7-4613-AC69-39B90DC0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BE4-5914-4CE1-B729-2EBE4DAB13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8BB9-FC0E-48A6-BA82-77F603B453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5600" y="566100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ться применять изученный материал, включающий определение, свойства, формулу n-го члена арифметической прогрессии,  на практи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03280" y="5157720"/>
          <a:ext cx="201636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157720"/>
                    <a:ext cx="20163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971640" y="263700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ие из последовательностей являются арифметическими прогрессиями? Почем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, 12, 18, 24, 30,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, 6, 9, 12,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-7, -14, -28, -35, -49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 называют разностью арифметической прогрессии? Как обозначают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йти разность арифметической прогресс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; 5; 9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5; 100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3; -15; -17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7800" indent="-577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; ? ; 19,…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ое  из  равенств является формулой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о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979640" y="3357720"/>
          <a:ext cx="3816360" cy="82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357720"/>
                    <a:ext cx="3816360" cy="82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908000" y="4149720"/>
          <a:ext cx="4176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4149720"/>
                    <a:ext cx="417672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908000" y="4797360"/>
          <a:ext cx="4185000" cy="8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4797360"/>
                    <a:ext cx="41850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1908000" y="5516640"/>
          <a:ext cx="4227840" cy="82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5516640"/>
                    <a:ext cx="42278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шите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 члена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ый член арифметической прогрессии равен 5, а разность 3, найдите е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ятнадцат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4005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 первый 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407664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надцатый чл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0" lang="en-US" sz="4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419640" y="3645000"/>
            <a:ext cx="2592360" cy="107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+ d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1332000" y="4869000"/>
            <a:ext cx="143964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a</a:t>
            </a:r>
            <a:r>
              <a:rPr b="0" lang="en-US" sz="2800" spc="-1" strike="noStrike" u="sng" baseline="-25000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3851280" y="5877000"/>
            <a:ext cx="144000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6443640" y="465300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586728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124000" y="2349360"/>
            <a:ext cx="144000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2484360" y="436572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3280" y="4724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5940360" y="4365720"/>
            <a:ext cx="647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5435640" y="3068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131640" y="3068280"/>
            <a:ext cx="1079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0748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пределение арифметической прогрессии. Формула 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-го чле-на арифметической прогрессии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843280" y="472428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Урок №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04320" y="5533920"/>
            <a:ext cx="57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льнейшее освоение теоретических знаний по теме «Определение арифметической прогрессии. Формул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го члена арифметической прогрессии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менять полученные знания для решения задач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2017440"/>
            <a:ext cx="76327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ая последовательность называется арифметической прогресси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508640"/>
            <a:ext cx="7632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вляется ли последовательность чисел, кратных 6 арифметической прогрессией? Чему равен ее первый член и разно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3068640"/>
            <a:ext cx="763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к проверить, является ли последовательность арифметической прогрессие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определение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определять является ли числовая последовательность арифметической прогрессией или не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и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именять формулу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го члена  арифметической прогрессии при решении зада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0614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ли арифметической прогрессией последовательность (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 заданная формуло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627280" y="3429000"/>
          <a:ext cx="276228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429000"/>
                    <a:ext cx="27622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2700360" y="4149720"/>
          <a:ext cx="251316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4149720"/>
                    <a:ext cx="251316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2700360" y="4869000"/>
          <a:ext cx="2987640" cy="82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869000"/>
                    <a:ext cx="29876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1476360" y="5591160"/>
            <a:ext cx="70610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числить первые три члена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стная рабо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134480" cy="19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зность арифметической прогрессии равна 4. Какой формулой может быть задана эта арифметическая прогресс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03640" y="3645000"/>
          <a:ext cx="2089080" cy="60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3645000"/>
                    <a:ext cx="20890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203640" y="4292640"/>
          <a:ext cx="208764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292640"/>
                    <a:ext cx="208764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203640" y="4869000"/>
          <a:ext cx="2158920" cy="6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69000"/>
                    <a:ext cx="2158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47640" y="55897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ему равен первый член этой арифметической прогре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рок сегодня завершён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 каждый должен знать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знание, упорство, труд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 прогрессу в жизни приведу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0560" y="2017800"/>
            <a:ext cx="66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огрессия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меет латинско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исхождение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(progression), что означает «</a:t>
            </a: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движение вперед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»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и был введен римским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втором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оэцием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(VI в.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588000" y="213372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Что такое ПРОГРЕС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Этим термином в математике прежде именовали всякую последовательность чисел, построенную по такому закону, который позволяет неограниченно продолжать эту последовательность в одном направлении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В настоящее время термин «прогрессия» в первоначально широком смысле не употребляетс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в английских учебниках появились обозначения арифметической и геометрической прогресси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3344760" y="4076640"/>
            <a:ext cx="5474880" cy="581400"/>
            <a:chOff x="3344760" y="4076640"/>
            <a:chExt cx="5474880" cy="581400"/>
          </a:xfrm>
        </p:grpSpPr>
        <p:sp>
          <p:nvSpPr>
            <p:cNvPr id="111" name="Rectangle 6"/>
            <p:cNvSpPr/>
            <p:nvPr/>
          </p:nvSpPr>
          <p:spPr>
            <a:xfrm>
              <a:off x="7524720" y="4105080"/>
              <a:ext cx="10796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32"/>
            <p:cNvGrpSpPr/>
            <p:nvPr/>
          </p:nvGrpSpPr>
          <p:grpSpPr>
            <a:xfrm>
              <a:off x="3344760" y="4076640"/>
              <a:ext cx="5474880" cy="581400"/>
              <a:chOff x="3344760" y="4076640"/>
              <a:chExt cx="5474880" cy="581400"/>
            </a:xfrm>
          </p:grpSpPr>
          <p:sp>
            <p:nvSpPr>
              <p:cNvPr id="113" name="Rectangle 4"/>
              <p:cNvSpPr/>
              <p:nvPr/>
            </p:nvSpPr>
            <p:spPr>
              <a:xfrm>
                <a:off x="3344760" y="4076640"/>
                <a:ext cx="420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Constantia"/>
                  </a:rPr>
                  <a:t>Арифметическая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nstantia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7"/>
              <p:cNvGrpSpPr/>
              <p:nvPr/>
            </p:nvGrpSpPr>
            <p:grpSpPr>
              <a:xfrm>
                <a:off x="7885080" y="4105080"/>
                <a:ext cx="934560" cy="519120"/>
                <a:chOff x="7885080" y="4105080"/>
                <a:chExt cx="934560" cy="519120"/>
              </a:xfrm>
            </p:grpSpPr>
            <p:sp>
              <p:nvSpPr>
                <p:cNvPr id="115" name="Text Box 8"/>
                <p:cNvSpPr/>
                <p:nvPr/>
              </p:nvSpPr>
              <p:spPr>
                <a:xfrm>
                  <a:off x="8316720" y="4105080"/>
                  <a:ext cx="5029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9"/>
                <p:cNvGrpSpPr/>
                <p:nvPr/>
              </p:nvGrpSpPr>
              <p:grpSpPr>
                <a:xfrm>
                  <a:off x="7885080" y="4249440"/>
                  <a:ext cx="360000" cy="290520"/>
                  <a:chOff x="7885080" y="4249440"/>
                  <a:chExt cx="360000" cy="290520"/>
                </a:xfrm>
              </p:grpSpPr>
              <p:grpSp>
                <p:nvGrpSpPr>
                  <p:cNvPr id="117" name="Group 10"/>
                  <p:cNvGrpSpPr/>
                  <p:nvPr/>
                </p:nvGrpSpPr>
                <p:grpSpPr>
                  <a:xfrm>
                    <a:off x="7885080" y="4249440"/>
                    <a:ext cx="360000" cy="144360"/>
                    <a:chOff x="7885080" y="4249440"/>
                    <a:chExt cx="360000" cy="144360"/>
                  </a:xfrm>
                </p:grpSpPr>
                <p:sp>
                  <p:nvSpPr>
                    <p:cNvPr id="118" name="Line 11"/>
                    <p:cNvSpPr/>
                    <p:nvPr/>
                  </p:nvSpPr>
                  <p:spPr>
                    <a:xfrm>
                      <a:off x="7885080" y="4393800"/>
                      <a:ext cx="3600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Oval 12"/>
                    <p:cNvSpPr/>
                    <p:nvPr/>
                  </p:nvSpPr>
                  <p:spPr>
                    <a:xfrm>
                      <a:off x="8029080" y="4249440"/>
                      <a:ext cx="70920" cy="73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Oval 13"/>
                  <p:cNvSpPr/>
                  <p:nvPr/>
                </p:nvSpPr>
                <p:spPr>
                  <a:xfrm>
                    <a:off x="8029080" y="4466880"/>
                    <a:ext cx="709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1" name="Group 35"/>
          <p:cNvGrpSpPr/>
          <p:nvPr/>
        </p:nvGrpSpPr>
        <p:grpSpPr>
          <a:xfrm>
            <a:off x="3369240" y="4941720"/>
            <a:ext cx="4930200" cy="625680"/>
            <a:chOff x="3369240" y="4941720"/>
            <a:chExt cx="4930200" cy="625680"/>
          </a:xfrm>
        </p:grpSpPr>
        <p:sp>
          <p:nvSpPr>
            <p:cNvPr id="122" name="Rectangle 14"/>
            <p:cNvSpPr/>
            <p:nvPr/>
          </p:nvSpPr>
          <p:spPr>
            <a:xfrm>
              <a:off x="3369240" y="4941720"/>
              <a:ext cx="389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Constantia"/>
                </a:rPr>
                <a:t>Геометрическ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34"/>
            <p:cNvGrpSpPr/>
            <p:nvPr/>
          </p:nvGrpSpPr>
          <p:grpSpPr>
            <a:xfrm>
              <a:off x="7291440" y="5062680"/>
              <a:ext cx="1008000" cy="504720"/>
              <a:chOff x="7291440" y="5062680"/>
              <a:chExt cx="1008000" cy="504720"/>
            </a:xfrm>
          </p:grpSpPr>
          <p:sp>
            <p:nvSpPr>
              <p:cNvPr id="124" name="Rectangle 18"/>
              <p:cNvSpPr/>
              <p:nvPr/>
            </p:nvSpPr>
            <p:spPr>
              <a:xfrm>
                <a:off x="7291440" y="5062680"/>
                <a:ext cx="1008000" cy="50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19"/>
              <p:cNvGrpSpPr/>
              <p:nvPr/>
            </p:nvGrpSpPr>
            <p:grpSpPr>
              <a:xfrm>
                <a:off x="7362720" y="5164200"/>
                <a:ext cx="576360" cy="340920"/>
                <a:chOff x="7362720" y="5164200"/>
                <a:chExt cx="576360" cy="340920"/>
              </a:xfrm>
            </p:grpSpPr>
            <p:sp>
              <p:nvSpPr>
                <p:cNvPr id="126" name="Oval 20"/>
                <p:cNvSpPr/>
                <p:nvPr/>
              </p:nvSpPr>
              <p:spPr>
                <a:xfrm>
                  <a:off x="7723080" y="5419440"/>
                  <a:ext cx="71640" cy="85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1"/>
                <p:cNvGrpSpPr/>
                <p:nvPr/>
              </p:nvGrpSpPr>
              <p:grpSpPr>
                <a:xfrm>
                  <a:off x="7362720" y="5164200"/>
                  <a:ext cx="576360" cy="340560"/>
                  <a:chOff x="7362720" y="5164200"/>
                  <a:chExt cx="576360" cy="340560"/>
                </a:xfrm>
              </p:grpSpPr>
              <p:grpSp>
                <p:nvGrpSpPr>
                  <p:cNvPr id="128" name="Group 22"/>
                  <p:cNvGrpSpPr/>
                  <p:nvPr/>
                </p:nvGrpSpPr>
                <p:grpSpPr>
                  <a:xfrm>
                    <a:off x="7362720" y="5164200"/>
                    <a:ext cx="576360" cy="168480"/>
                    <a:chOff x="7362720" y="5164200"/>
                    <a:chExt cx="576360" cy="168480"/>
                  </a:xfrm>
                </p:grpSpPr>
                <p:sp>
                  <p:nvSpPr>
                    <p:cNvPr id="129" name="Oval 23"/>
                    <p:cNvSpPr/>
                    <p:nvPr/>
                  </p:nvSpPr>
                  <p:spPr>
                    <a:xfrm>
                      <a:off x="7723080" y="5164200"/>
                      <a:ext cx="71640" cy="85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4040" bIns="14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Group 24"/>
                    <p:cNvGrpSpPr/>
                    <p:nvPr/>
                  </p:nvGrpSpPr>
                  <p:grpSpPr>
                    <a:xfrm>
                      <a:off x="7362720" y="5164200"/>
                      <a:ext cx="576360" cy="168480"/>
                      <a:chOff x="7362720" y="5164200"/>
                      <a:chExt cx="576360" cy="168480"/>
                    </a:xfrm>
                  </p:grpSpPr>
                  <p:sp>
                    <p:nvSpPr>
                      <p:cNvPr id="131" name="Line 25"/>
                      <p:cNvSpPr/>
                      <p:nvPr/>
                    </p:nvSpPr>
                    <p:spPr>
                      <a:xfrm>
                        <a:off x="7362720" y="5332680"/>
                        <a:ext cx="576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Oval 26"/>
                      <p:cNvSpPr/>
                      <p:nvPr/>
                    </p:nvSpPr>
                    <p:spPr>
                      <a:xfrm>
                        <a:off x="7505640" y="5164200"/>
                        <a:ext cx="71640" cy="853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4040" bIns="14040" anchor="ctr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33" name="Oval 27"/>
                  <p:cNvSpPr/>
                  <p:nvPr/>
                </p:nvSpPr>
                <p:spPr>
                  <a:xfrm>
                    <a:off x="7505640" y="5419080"/>
                    <a:ext cx="7164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176508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акончился двадцатый ве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да стремится человек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учен космос и мор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роенье звезд и вся земл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о математиков зове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звестный лозунг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Прогрессия – движение вперёд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литературе мы встречаем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атематическими понятиями! Так, вспомним строки из"Евгения Онегина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...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Как мы не бились, отличить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грессия в литератур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 u="sng">
                <a:solidFill>
                  <a:srgbClr val="800080"/>
                </a:solidFill>
                <a:uFillTx/>
                <a:latin typeface="Tahoma"/>
              </a:rPr>
              <a:t>Ямб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755640" y="2565360"/>
            <a:ext cx="7555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Мой дЯдя сАмых чЕстных прАвил...»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"/>
          <p:cNvSpPr/>
          <p:nvPr/>
        </p:nvSpPr>
        <p:spPr>
          <a:xfrm>
            <a:off x="755640" y="3202200"/>
            <a:ext cx="8209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Ямб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четных слогах 2; 4; 6; 8..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мера ударных слогов образу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с первым членом 2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ностью прогрессии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995760" y="5876280"/>
            <a:ext cx="40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2; 4; 6; 8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7"/>
          <p:cNvSpPr/>
          <p:nvPr/>
        </p:nvSpPr>
        <p:spPr>
          <a:xfrm>
            <a:off x="324000" y="1989000"/>
            <a:ext cx="28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00080"/>
                </a:solidFill>
                <a:uFillTx/>
                <a:latin typeface="Constantia"/>
              </a:rPr>
              <a:t>Хор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1464120" y="2349360"/>
            <a:ext cx="606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«Я пропАл, как звЕрь в загО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219640" y="3141720"/>
            <a:ext cx="324180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Б. Л. Пастер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226440" y="5396760"/>
            <a:ext cx="41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nstantia"/>
              </a:rPr>
              <a:t>Прогрессия: 1; 3 ;5; 7...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933720"/>
            <a:ext cx="856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Хорей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о стихотворный размер с ударением на нечетных слогах стиха. Номера ударных слогов образую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ифметическую прогрессию 1; 3; 5; 7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189000"/>
            <a:ext cx="7792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7:39:23Z</dcterms:created>
  <dc:creator>Мелкомуковы</dc:creator>
  <dc:description/>
  <dc:language>en-US</dc:language>
  <cp:lastModifiedBy>Мелкомуковы</cp:lastModifiedBy>
  <dcterms:modified xsi:type="dcterms:W3CDTF">2012-01-22T12:34:14Z</dcterms:modified>
  <cp:revision>5</cp:revision>
  <dc:subject/>
  <dc:title>Арифметическая прогрессия</dc:title>
</cp:coreProperties>
</file>